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448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450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9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448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448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1906A-AB3D-46DF-AC2A-BB1BEEB377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529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uz Image by Andrew McGown and Josh Bush.  Image is licensed CC BY-SA.  See Linux-2.6.29/Documentation/logu.sv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6240" y="685800"/>
            <a:ext cx="454824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E9A-1794-4E31-B5B1-337DA8AC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260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09320"/>
            <a:ext cx="820260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B51-430C-4171-96F9-B2F64D73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020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8B5-A636-4416-913D-093AF6E6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0280" y="171900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3720" y="171900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0932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0280" y="400932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3720" y="4009320"/>
            <a:ext cx="26409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502-6927-4BC2-9816-235739FA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19000"/>
            <a:ext cx="820260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75C-6D5A-4ABB-B0A8-B5E720D6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260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F78-7061-42CE-86E8-432CE125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347-4637-4D00-964A-C8C46EA4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591-0484-46FC-9D7D-636B2609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360" y="115560"/>
            <a:ext cx="75168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C39-5FF2-413B-A19B-B959886F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0C6-631D-4007-B097-790CC092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0200" y="400932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A5F-36FB-4D60-818B-48230B5E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200" y="1719000"/>
            <a:ext cx="40028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9320"/>
            <a:ext cx="820260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D51-6163-49C8-96D9-CC94EEB1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168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719000"/>
            <a:ext cx="820260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067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688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0672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32B58-0EDD-4F47-BA51-15C56BB43E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elenic.com/bloatwatch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WHfY_lvKIQ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tus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mbedded Linu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im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Architecture Group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LF CE Work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052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 symbols abstr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'symfs' option for off-box analysis of perf.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be good for embe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9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052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information from dying kernel into some persistent sto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mtdoops or ramo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for embedded now, but maybe could be used for this l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434821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than that, not much embedded stu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arch tree has been in fl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1480" cy="12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erv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072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e of “general features for embedded” contributions seems 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arch tree has been in fl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ing and stopping contribution accep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platform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'm probably missing some areas (PM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still, I worry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1480" cy="12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ches to wat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0728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IRQ re-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arch sub-tree refac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ce t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st symbol resolution (more lat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time PM pat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 effect on PM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Technology Area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79280" y="400176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052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ahead getting lots of att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eadahead in Ubun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my presentation at ABS about readahead with Andro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napshot 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d topic, but still very pop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work both inside and outsid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40280" indent="-4464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much mainl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ELC presentation by Kang Dongw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system speed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funding work in this area (more lat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1480" cy="12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07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P (Execute-In-Pla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most removed from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sion in kernel was brok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of XIP on only out-of-tree platforms is a probl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loader impro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eboot on x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“Really fast x86 boot” presentation at FOSDEM 20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-Boot ARM caching enhanc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patches to wat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0520" cy="29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d up symbol resolution during module lo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search in symbol table avoids linear lookup cost per symbol when loading a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ose to being mainl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 work by Alan Jenkins – new developer is Alessio Boga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1480" cy="12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load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0728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FU support in U-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fastboot support in U-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to U-Boot by TI for Panda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sistance to getting it mainl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1480" cy="12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7680" y="1337760"/>
            <a:ext cx="82072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 ES is de-facto standard every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 had Skia, but is moving...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go used Clutter, Qt, and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buffer is going away, with acceleration required for larger scre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y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l moving towards Way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lacement for X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556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multiple top-layer AP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558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work around memory management between kernel, user-space and GP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0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360" y="114120"/>
            <a:ext cx="75182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4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0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lerated rendering is a big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 introduced render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86000" indent="-45576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s LLVM to do runtime retargeting of script to whatever capabilities device 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support GPU in SOC is very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493560"/>
            <a:ext cx="75200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 Driv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0584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VR graphics dr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VR is being used lots of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l adopted for Cedarview and it's already in Sodavil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s in very many ARM SOC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VR driver is closed-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an Cox submitted some driver pieces in Febru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mitted anything relating to out-of-tree binary dri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http://thread.gmane.org/gmane.linux.kernel/110379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495000"/>
            <a:ext cx="7520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lti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0584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strea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till being used in T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: Google TV uses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media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gefright – new media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places OpenCor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ec w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M/VP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 codec by Goog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grated into HTML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440" y="1347480"/>
            <a:ext cx="821052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lacing JFFS2 as default raw flash FS of ch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FFS2 is not in mainline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CELF fu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ears to be abando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360" y="114120"/>
            <a:ext cx="75182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4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0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 moving to Ext4 for future Android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ready using eMMC instead of raw fla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s said that main reason was SMP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nt to optimize Linux filesystem layers for fl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Arnd Bergmann's work on filesystem performance on cheap flash media (EL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052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time 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39640" indent="-55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vely new ability to suspend and resume individual system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39640" indent="-55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347573/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0" indent="-55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Magnus Damm’s slides at: http://elinux.org/ELC_2010_Present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4400" indent="-55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ynchronous suspend and resu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39640" indent="-55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ster suspend and resume to save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39640" indent="-55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associated with user-initiated susp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360" y="114120"/>
            <a:ext cx="75182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69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 WG is reviving Linux-tiny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640" indent="-54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atwatch is still running – but who looks at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5454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selenic.com/bloatwa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5454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g increases in some kernel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-54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 Wang had a good talk at ELC about optimizing memory usage throughout th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8640" indent="-54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problem is really about user space 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5454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M killer or OOM avoidance is big iss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194560" indent="-4374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group memory not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194560" indent="-4374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roid has it's own th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Tool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79280" y="400176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00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7720" y="1537920"/>
            <a:ext cx="8205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E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EMU is being used everywhere, for device emulation (Android, Yoc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QEMU implementation (!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now de-facto “umbrella” tool for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pry seasoned developers away from command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Trace Format standard ex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360" y="114120"/>
            <a:ext cx="75182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040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0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cto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brella project – has builder, eclipse tools, other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Embedded and Yocto are getting integ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ns of talks at E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ll lots of custom build systems out t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Linux Kernel Version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979280" y="400176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Embedded Distribution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79280" y="400176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Distribu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0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e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21052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roid 3.1 SDK (Honeycomb r2) released May, 2011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ce Cream Sandwich due Q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unify mobile, tablet and TV platforms in one code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ne activations at 400,000 per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lvik ported to non-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riad Alien Dalvik for Mee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cedRobot for native Lin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00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000000"/>
                </a:solidFill>
                <a:latin typeface="Arial"/>
              </a:rPr>
              <a:t>Google T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0584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 device (including old ones) will have Honeycomb 3.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 have Android mar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rd party applications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al good talks at Google I/O about developing apps for TVs (both web and Androi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00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000000"/>
                </a:solidFill>
                <a:latin typeface="Arial"/>
              </a:rPr>
              <a:t>Industry organiz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05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Fou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lots of embedded-related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cto, Meego, CE Workgrou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cently announced Meego TV workgrou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a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d on onsortium technologies for ARM process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funding effort to address ARM architecture churn in main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62960" indent="-451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ganizing ARM sub-arch proj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004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7720" y="1538280"/>
            <a:ext cx="82058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ockable bootlo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d by Motorola, Sony/Eric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nlock bootloader to install custom firm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pes the phone to remove DRM-protected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orola says you can re-lock by reinstalling vendor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4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use of Stack Overf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site for answering detailed development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youtube.com/watch?v=NWHfY_lvKI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562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571680"/>
                <a:tab algn="l" pos="684360"/>
                <a:tab algn="l" pos="1141560"/>
                <a:tab algn="l" pos="1598760"/>
                <a:tab algn="l" pos="2055960"/>
                <a:tab algn="l" pos="2513160"/>
                <a:tab algn="l" pos="2970360"/>
                <a:tab algn="l" pos="3427560"/>
                <a:tab algn="l" pos="3884760"/>
                <a:tab algn="l" pos="4341960"/>
                <a:tab algn="l" pos="4799160"/>
                <a:tab algn="l" pos="5256360"/>
                <a:tab algn="l" pos="5713560"/>
                <a:tab algn="l" pos="6170760"/>
                <a:tab algn="l" pos="6627960"/>
                <a:tab algn="l" pos="7085160"/>
                <a:tab algn="l" pos="7542360"/>
                <a:tab algn="l" pos="7999560"/>
                <a:tab algn="l" pos="8456760"/>
                <a:tab algn="l" pos="8913960"/>
                <a:tab algn="l" pos="93711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 developers answer questions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4120"/>
            <a:ext cx="752940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152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608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WN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608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Arial"/>
              </a:rPr>
              <a:t>http://lwn.net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93000"/>
              </a:lnSpc>
              <a:spcBef>
                <a:spcPts val="8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1608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are not a subscriber, please do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1608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Newb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1608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Arial"/>
              </a:rPr>
              <a:t>http://kernelnewbies.org/Linux_2_6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_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608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 - </a:t>
            </a:r>
            <a:r>
              <a:rPr b="0" lang="en-GB" sz="3000" spc="-1" strike="noStrike">
                <a:solidFill>
                  <a:srgbClr val="000080"/>
                </a:solidFill>
                <a:latin typeface="Arial"/>
              </a:rPr>
              <a:t>http://elinux.org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ct val="93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1608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-embedded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130000"/>
              <a:buFont typeface="Arial"/>
              <a:buChar char="•"/>
              <a:tabLst>
                <a:tab algn="l" pos="31608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vger.kernel.org/vger-lists.html#linux-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16080"/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Ver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0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4 – 16 May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5 – 1 Aug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6 – 20 Oct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7 – 4 Jan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8 – 14 Ma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9 – 19 May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481040" indent="-566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versions in 12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0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-structured flash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ynchronous suspend/resu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366915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group memory threshold notif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ython scripting support for per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373842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 like Pyth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052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-space OOM notif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puidle – idle pattern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7504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detect when a periodic interrupt is causing a steady wakeup, and adjust next-wakeup according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75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387250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r slack mechanism introduc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7504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for combining timers within a “slack” range, decreasing wakeups and saving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75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369549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oops dr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7504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oops into RAM for later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0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Armor – path-based security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keup cou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rnel-user interface to allow system to suspend aggressively without race conditions on wakup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OOM ki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391222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BKL remo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ZO compression in 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6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0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RC infrared controller driver su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infrared devices (e.g. TV remote contro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ly in staging – go use and test if you want it to move out of st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 year-old projec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2472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0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mp lab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8080"/>
              </a:buClr>
              <a:buSzPct val="125000"/>
              <a:buFont typeface="Times New Roman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tes (almost completely) the overhead when tracing calls are disab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412072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11-05-19T20:44:32Z</dcterms:modified>
  <cp:revision>72</cp:revision>
  <dc:subject/>
  <dc:title>スライド 1</dc:title>
</cp:coreProperties>
</file>